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0D5-2661-4874-A9BC-93A2F102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84E-7269-4A51-937B-BCA8C3B9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8F3-238F-4220-8743-FF06298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2E5-D985-4F9B-9399-D5C4AF3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A38-272C-403F-8224-0D0C4978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4EF-9E68-4592-B3B5-E9AE7284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0AB-A374-48C6-B668-E636B97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744-BD3A-4DF3-B223-4ADD5BD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D01-2606-4E88-AD35-A7F2923B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1E7-415B-48FE-9735-F60268F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29E-9378-410C-BB83-3A70BC2A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0E6-8F45-434C-8DDD-28DA82B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585-8974-48A7-8388-2507F59A9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72428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Ribbon et Curly naviguent sur un batea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7242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pilote un av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47242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ole d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62320" y="44197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 hélicoptè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457200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oyage en fu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4800600"/>
            <a:ext cx="8839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Zommies et les trasnports est 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édié à R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34340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Ribbon et Silly Billy montent sur une patinet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4572000"/>
            <a:ext cx="8686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Silly Billy court sur une planche 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  <a:ea typeface="Arial"/>
              </a:rPr>
              <a:t>à roulett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45720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ly Billy mon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vé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2286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tortue doit marc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22860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ly conduit une mo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304920"/>
            <a:ext cx="8763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urly et SiIly Billy sautent d’un tram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5486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va en autob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4572000"/>
            <a:ext cx="6324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conduit une voi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18:47Z</dcterms:created>
  <dc:creator>CVJH-LAB</dc:creator>
  <dc:description/>
  <dc:language>en-US</dc:language>
  <cp:lastModifiedBy>nield411</cp:lastModifiedBy>
  <dcterms:modified xsi:type="dcterms:W3CDTF">2008-02-23T15:47:20Z</dcterms:modified>
  <cp:revision>8</cp:revision>
  <dc:subject/>
  <dc:title>Slide 1</dc:title>
</cp:coreProperties>
</file>